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9283700" cy="6934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D2E48-04D8-478F-BCB0-0C38159A3E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C8A8-B5F5-4182-BACE-42767F7EC52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0BBAB-5A41-4460-8560-3A96E0BCF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AC36E-612A-4FD0-B1D5-096C55F49E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7FFB4-3905-4D58-8B56-9916FFAFA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3D0CC-2C4E-49DD-AFFF-7E3C54220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0ACB6-055A-4D16-8CD2-A58A8905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6C8C05-8B64-43DF-8702-C2DD464D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E77AD-23EC-4484-858C-279DAC247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1450E2-8CD8-4AEC-831C-F1B424BF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EE80A2-78F9-43F6-8C3A-70D07233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631B6-33A4-4470-9670-78B3553A0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28984-3834-41AB-A03E-C86BC1963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FF7270-5D7D-4F19-B7E1-744016B2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B666CA-5207-4D9E-858F-33C38AA7E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F48475-BFC2-4FA7-BB22-457D5DA2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55104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35400" y="175212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06632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55104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35400" y="37904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9B9E8-810C-4CFF-B97C-A6FFD6FAE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D5726-A9F3-46B0-9ECB-4B7909A1CD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F2AEC-810F-4627-8385-6D297DE0B5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75D1DB-5638-45BB-8B7F-BE337A79B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54080" y="87120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65AA7-DBC2-4E75-8677-DB041955A9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FEBA8-8BE8-4A08-B4E6-F646674E3D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31920" y="37904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C39A9-B414-417F-88BE-FEF3A974B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5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31920" y="175212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7904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F378-B7FA-42C5-BF3D-06427B453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144000" cy="72720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66320" y="1752120"/>
            <a:ext cx="734868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SzPct val="13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43812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42520" y="9036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8370720" y="100080"/>
            <a:ext cx="623880" cy="2476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1446120" y="19512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1440" y="6324480"/>
            <a:ext cx="9142560" cy="28584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3"/>
          <p:cNvSpPr>
            <a:spLocks noGrp="1"/>
          </p:cNvSpPr>
          <p:nvPr>
            <p:ph type="ftr" idx="1"/>
          </p:nvPr>
        </p:nvSpPr>
        <p:spPr>
          <a:xfrm>
            <a:off x="178920" y="6676560"/>
            <a:ext cx="5977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2"/>
          </p:nvPr>
        </p:nvSpPr>
        <p:spPr>
          <a:xfrm>
            <a:off x="6552720" y="6669000"/>
            <a:ext cx="213372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09057-4135-4FFD-8C1E-66D5F3B219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0" t="0" r="6463" b="0"/>
          <a:stretch/>
        </p:blipFill>
        <p:spPr>
          <a:xfrm>
            <a:off x="7521480" y="687240"/>
            <a:ext cx="1003320" cy="400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03508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189072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-714240" y="-1855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329520" y="5238720"/>
            <a:ext cx="2577960" cy="457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0" y="4778280"/>
            <a:ext cx="9142560" cy="37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8453520" y="969840"/>
            <a:ext cx="23004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Arial"/>
                <a:ea typeface="Arial"/>
              </a:rPr>
              <a:t>®</a:t>
            </a: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3"/>
          </p:nvPr>
        </p:nvSpPr>
        <p:spPr>
          <a:xfrm>
            <a:off x="-396720" y="6244920"/>
            <a:ext cx="6913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omated Deployment Example – dec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E985-0560-40FA-9DEE-11057AAEDD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dt" idx="5"/>
          </p:nvPr>
        </p:nvSpPr>
        <p:spPr>
          <a:xfrm>
            <a:off x="611280" y="6524640"/>
            <a:ext cx="213336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7889fb"/>
              </a:buClr>
              <a:buFont typeface="Arial"/>
              <a:buChar char="−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earle@ca.ibm.com" TargetMode="External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1916280"/>
            <a:ext cx="821376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utomated Deployment Example</a:t>
            </a:r>
            <a:br>
              <a:rPr sz="3600"/>
            </a:b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y Searle,  </a:t>
            </a:r>
            <a:r>
              <a:rPr b="0" lang="en-US" sz="2800" spc="-1" strike="noStrike" u="sng">
                <a:solidFill>
                  <a:srgbClr val="c0c0c0"/>
                </a:solidFill>
                <a:uFillTx/>
                <a:latin typeface="Arial"/>
                <a:hlinkClick r:id="rId1"/>
              </a:rPr>
              <a:t>searle@ca.ibm.com</a:t>
            </a:r>
            <a:br>
              <a:rPr sz="28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, WebSphere Tools for Automated Build and Deployment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991969-9EE5-40DC-9EB1-F07959FBE2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Automated Deployment Example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mplete real-world example of the most common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, with deploy/utility scriptlets (set Attribut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y re-usable for many customers (at least a starting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5.0+ JACL Script 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example to exploit and leverage much of what exists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t is NO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a totally generic solution suitable to all customers / purpo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ally not “Continuous-Availability” with apriori work re-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that exercises or explains all functions or all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omething providing rollback (must redeploy previous deploy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production ready (minimal error/exception handling and/or recove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90000"/>
              </a:lnSpc>
              <a:spcBef>
                <a:spcPts val="624"/>
              </a:spcBef>
              <a:spcAft>
                <a:spcPts val="374"/>
              </a:spcAft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es not enable/exploit security or setup server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1A0C8-6EAD-4F89-8709-6F5C4046DD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871200"/>
            <a:ext cx="91440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utomated Deployment - Typical User Deployment Flow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411280" y="52293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184464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139920"/>
            <a:ext cx="201600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635280" y="249228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QA / Pil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1771560"/>
            <a:ext cx="2016360" cy="86364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48360" y="2997360"/>
            <a:ext cx="2016360" cy="863280"/>
          </a:xfrm>
          <a:prstGeom prst="rect">
            <a:avLst/>
          </a:prstGeom>
          <a:solidFill>
            <a:srgbClr val="7889fb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ell 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 flipV="1">
            <a:off x="2195640" y="4005360"/>
            <a:ext cx="100800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55640" y="4005360"/>
            <a:ext cx="503280" cy="1224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484360" y="3068280"/>
            <a:ext cx="115092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84360" y="2276640"/>
            <a:ext cx="1150920" cy="50292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651640" y="2060280"/>
            <a:ext cx="129672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51640" y="3068640"/>
            <a:ext cx="1296720" cy="2872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08000" y="450864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Integr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35280" y="3284640"/>
            <a:ext cx="24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il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88000" y="3139920"/>
            <a:ext cx="24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eploy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tage=P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1619280" y="2707920"/>
            <a:ext cx="1657440" cy="2592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684360" y="2707920"/>
            <a:ext cx="792000" cy="252108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61C64-6F16-4A99-B18E-D2B86AFB3B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620280"/>
            <a:ext cx="93250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7889fb"/>
                </a:solidFill>
                <a:latin typeface="Arial"/>
              </a:rPr>
              <a:t>Automated Deployment Example - Objective</a:t>
            </a:r>
            <a:endParaRPr b="0" lang="en-US" sz="3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785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utomated Build example result (Adder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+ EJB + EJBclient + WAR + AppCli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exible op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n with multiple (dynamic) sets of 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different user environments (stag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perty file driven customization of EARs and their modu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to server or cluster in Network Deployment C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ptimized install/update to multiple cluster/server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-deployment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pd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of updated EA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0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algorithm assists 7x24 high-avail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luster-Update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buClr>
                <a:srgbClr val="7889fb"/>
              </a:buClr>
              <a:buSzPct val="13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s towards v6 Continuous-Availability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check of resulting application (started and correct URL respon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0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so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ir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 existing installation, or ‘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inst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8E3DED-5A94-4C45-A605-32A9D13C6D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Command and Inputs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66920" y="4292640"/>
            <a:ext cx="315288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de1 Serve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uster-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78560" y="4292640"/>
            <a:ext cx="3168720" cy="172872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EarN-StageX.Sett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1=Value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ameN=Valu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51280" y="1916280"/>
            <a:ext cx="3124080" cy="165708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istribution Direct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ar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21" idx="0"/>
            <a:endCxn id="123" idx="2"/>
          </p:cNvCxnSpPr>
          <p:nvPr/>
        </p:nvCxnSpPr>
        <p:spPr>
          <a:xfrm flipV="1">
            <a:off x="3843000" y="3573000"/>
            <a:ext cx="1570680" cy="72000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 flipH="1" flipV="1">
            <a:off x="5435280" y="3428640"/>
            <a:ext cx="1560600" cy="86364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1" idx="0"/>
            <a:endCxn id="125" idx="0"/>
          </p:cNvCxnSpPr>
          <p:nvPr/>
        </p:nvCxnSpPr>
        <p:spPr>
          <a:xfrm flipV="1">
            <a:off x="3843000" y="3428280"/>
            <a:ext cx="1594440" cy="864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322200" y="1844640"/>
            <a:ext cx="2808360" cy="1728720"/>
          </a:xfrm>
          <a:prstGeom prst="rect">
            <a:avLst/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eploy Comma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DistributionDirec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Action (install, update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nfirm, uninsta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Environment  (Stag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2F3C3-84F7-4438-AC45-06BCAF9F30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0560" y="549360"/>
            <a:ext cx="88930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Targets (Generic)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20720" y="2060640"/>
            <a:ext cx="147636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34000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924360" y="2060640"/>
            <a:ext cx="151128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50872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0560" y="1916280"/>
            <a:ext cx="28638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0560" y="1484280"/>
            <a:ext cx="28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3640" y="1484280"/>
            <a:ext cx="291636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916280"/>
            <a:ext cx="4597200" cy="144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4360" y="1484280"/>
            <a:ext cx="459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7440" y="1484280"/>
            <a:ext cx="4680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Nod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359080" y="3645000"/>
            <a:ext cx="30765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56000" y="3645000"/>
            <a:ext cx="27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d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56000" y="3716280"/>
            <a:ext cx="2808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Cluster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000" y="4149720"/>
            <a:ext cx="7309080" cy="151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1 targets: Node-1/Server-1 plus Cluster-1 (N1S2+N2S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2 targets: Cluster-1 (Node-1/Server-2 plus Node-2/Server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18213"/>
                </a:solidFill>
                <a:latin typeface="Arial"/>
                <a:ea typeface="Arial"/>
              </a:rPr>
              <a:t>Application-3 targets: Node-1/Server-1 plus Node-2/Server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889fb"/>
                </a:solidFill>
                <a:latin typeface="Arial"/>
                <a:ea typeface="Arial"/>
              </a:rPr>
              <a:t>Application-4 targets: Node-2/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093080" y="2060640"/>
            <a:ext cx="1439640" cy="1439640"/>
          </a:xfrm>
          <a:prstGeom prst="rect">
            <a:avLst/>
          </a:prstGeom>
          <a:solidFill>
            <a:srgbClr val="7889f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Server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pplication-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3B976-083B-460F-84FB-0FF1B09B42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6628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Target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88567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nodeserver=nodeName,serv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cluster=cluster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deserver = myNode,server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uster = myClus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URL = 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multiple: testResult = result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1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Java adder(3,4) =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URL = http://myHost:9085/AdderWAR/AdderTest.j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estResponse = EJBsessionbean adder(5,6) = 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90DDB-0998-4ED0-B2EF-F6A0A90577D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8989920" cy="49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Deployment Example – </a:t>
            </a: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Settings</a:t>
            </a:r>
            <a:r>
              <a:rPr b="0" lang="en-US" sz="3600" spc="-1" strike="noStrike">
                <a:solidFill>
                  <a:srgbClr val="7889fb"/>
                </a:solidFill>
                <a:latin typeface="Arial"/>
              </a:rPr>
              <a:t> Properties</a:t>
            </a:r>
            <a:endParaRPr b="0" lang="en-US" sz="36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6913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application 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pplicationName=Adder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warClassLoaderPolicy=SI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# Adder webmodule 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oduleName=AdderWAR.w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tartingWeight=121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lassloaderMode=PARENT_L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7C669-A818-4B0C-B39C-95D54FD6E3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8920" y="475920"/>
            <a:ext cx="8713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889fb"/>
                </a:solidFill>
                <a:latin typeface="Arial"/>
              </a:rPr>
              <a:t>Deployment Example – Update Algorithm</a:t>
            </a:r>
            <a:endParaRPr b="0" lang="en-US" sz="3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 (or Cron monitor) invocation with DistributionDir/Stage/Cell/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e EARs and their matching “Stage” Target/Settings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culate all affected nodes/servers/applications (using Target propert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rify current configuration (nodes/servers/applications exist/availa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itialize all affected nodes (save AutoSync settings then set to fal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all/Update applications (set settings, set targets, Future: resources,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mized phased-node distribution (assist 7x24 application availabil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AffectedNodeServers, syncNode, restart AffectedNode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25000"/>
              </a:lnSpc>
              <a:buClr>
                <a:srgbClr val="7889fb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okPoint: User Plugin-cfg.xml workflow re-rou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tore all affected nodes (restore saved AutoSync setting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tVerify started applications (read web page to check resul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25000"/>
              </a:lnSpc>
              <a:buClr>
                <a:srgbClr val="7889fb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ve EARs+properties into “deployed” repository (or “failed” reposito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88C46-B15F-4B95-90E5-BBAEABCBDA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5:24:39Z</dcterms:created>
  <dc:creator>chng1me</dc:creator>
  <dc:description/>
  <dc:language>en-US</dc:language>
  <cp:lastModifiedBy>searle</cp:lastModifiedBy>
  <dcterms:modified xsi:type="dcterms:W3CDTF">2006-02-14T20:33:25Z</dcterms:modified>
  <cp:revision>178</cp:revision>
  <dc:subject/>
  <dc:title>Production(Unattended) Builds and Deployments</dc:title>
</cp:coreProperties>
</file>